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20.jpeg" ContentType="image/jpeg"/>
  <Override PartName="/ppt/media/image11.png" ContentType="image/png"/>
  <Override PartName="/ppt/media/image9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6.png" ContentType="image/png"/>
  <Override PartName="/ppt/media/image1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1.jpeg" ContentType="image/jpeg"/>
  <Override PartName="/ppt/media/image27.wmf" ContentType="image/x-wmf"/>
  <Override PartName="/ppt/media/image23.wmf" ContentType="image/x-wmf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7ED-4E93-4B75-B492-2ED7C3E3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8C7-591C-4697-9543-44AF1E80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EA8-FDA3-44A5-8352-763C2AB7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841-B9FC-46FC-807B-AAF82564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E0E8-694E-417E-B322-FF475926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4426-28BC-4184-973E-2C9259BB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FE46-1C90-4428-901F-03519AA0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5B27-89E3-429C-A71B-FC391AE4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58DC-443C-44C4-AB08-7DACF1D4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6618-956C-4633-84AB-6E283B9F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4F76-6664-46DB-8CFE-8388BC74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AFC-3D03-4C4E-B413-F85680C3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0485-E54B-4667-8397-69376855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BAC6-D54D-439A-AF2E-261A753E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49DB-071F-4BFF-886D-28042EAC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BABF-6FF2-4AD7-9E6B-D7D81FC1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A794-AE62-487E-8668-C0F45C70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A79-E6A8-4363-B301-32A2B605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CE0-FFBB-427F-8140-BEDBE05B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84F-D52C-4CC5-BB2B-E67A45D9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A2C-671C-472F-A482-B6A9A8A9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5F2-BA32-411B-BF42-0EF88F33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126-DE5C-4938-8B91-EE5921D7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BD8-8F39-4D8C-B542-E84F1582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F418-2F81-468C-A1A0-93DD81E5A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56B4-A38E-4F42-AE4E-F59DE823B9F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ve Op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inge Patter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ringe pattern formed from a Young’s Double Slit Experiment would look like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right areas represent constructive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rk areas represent destructive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224320" y="406440"/>
            <a:ext cx="39196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Patter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ructive interference occurs at the center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wo waves travel the same d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, they arrive in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Fig 24-03a"/>
          <p:cNvPicPr/>
          <p:nvPr/>
        </p:nvPicPr>
        <p:blipFill>
          <a:blip r:embed="rId1"/>
          <a:stretch/>
        </p:blipFill>
        <p:spPr>
          <a:xfrm>
            <a:off x="4495680" y="2057400"/>
            <a:ext cx="44593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Pattern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per wave has to travel farther than the lower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per wave travels one wavelength far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fore, the waves arrive in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right fringe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6" descr="Fig 24-03b"/>
          <p:cNvPicPr/>
          <p:nvPr/>
        </p:nvPicPr>
        <p:blipFill>
          <a:blip r:embed="rId1"/>
          <a:stretch/>
        </p:blipFill>
        <p:spPr>
          <a:xfrm>
            <a:off x="4379760" y="2133720"/>
            <a:ext cx="46119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Pattern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per wave travels one-half of a wavelength farther than the lower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ough of the bottom wave overlaps the crest of the upper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destructive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ark fringe occu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6" descr="Fig 24-03c"/>
          <p:cNvPicPr/>
          <p:nvPr/>
        </p:nvPicPr>
        <p:blipFill>
          <a:blip r:embed="rId1"/>
          <a:stretch/>
        </p:blipFill>
        <p:spPr>
          <a:xfrm>
            <a:off x="4419720" y="2057400"/>
            <a:ext cx="45352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th difference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, is found from the tan trian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δ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–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= d sin 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This assumes the paths are parall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Not exactly parallel, but a very good approximation since L is much greater than 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4267080" y="2400480"/>
          <a:ext cx="468792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400480"/>
                    <a:ext cx="468792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Equation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bright fringe, produced by constructive interference, the path difference must be either zero or some integral multiple of the wave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δ = d sin 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brigh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= m 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m = 0, ±1, ±2, 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m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order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When m = 0, it is the zeroth order maxim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When m = ±1,  it is called the first order maxim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Equation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sitions of the fringes can be measured vertically from the zeroth order max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 = L t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θ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 si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L&gt;&gt;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d&gt;&gt;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Approxi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 is small and therefore the approxim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 can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Equations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destructive interference occurs, a dark fringe is ob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needs a path difference of an odd half wave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δ = d sin 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dar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= (m + ½) 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Equation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bright fri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dark fri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600200" y="2666880"/>
          <a:ext cx="54324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54324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5"/>
          <p:cNvGraphicFramePr/>
          <p:nvPr/>
        </p:nvGraphicFramePr>
        <p:xfrm>
          <a:off x="1676520" y="4495680"/>
          <a:ext cx="6275160" cy="10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495680"/>
                    <a:ext cx="627516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ses for Young’s Double Slit Experi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ng’s Double Slit Experiment provides a method for measuring wavelength of the l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experiment gave the wave model of light a great deal of cred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inconceivable that particles of light could cancel each 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 Opt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ave nature of light is needed to explain various phenome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article nature of light was the basis for ray (geometric) op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loyd’s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rrangement for producing an interference pattern with a single light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 reach point P either by a direct path or by ref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flected ray can be treated as a ray from the source S’ behind the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6" descr="Fig 24-05"/>
          <p:cNvPicPr/>
          <p:nvPr/>
        </p:nvPicPr>
        <p:blipFill>
          <a:blip r:embed="rId1"/>
          <a:stretch/>
        </p:blipFill>
        <p:spPr>
          <a:xfrm>
            <a:off x="4267080" y="2133720"/>
            <a:ext cx="45356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Pattern from the Lloyd’s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interference pattern is forme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ositions of the dark and bright fringes ar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vers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relative to pattern of two real 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is because there is a 180° phase change produced by the refl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ase Changes Due To Refle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electromagnetic wave undergoes a phase change of 180° upon reflection from a medium of higher index of refraction than the one in which it was trave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ogous to a reflected pulse on a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114800" y="2666880"/>
          <a:ext cx="4952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666880"/>
                    <a:ext cx="4952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ase Changes Due To Reflec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no phase change when the wave is reflected from a boundary leading to a medium of lower index of ref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ogous to a pulse in a string reflecting from a free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3962520" y="2514600"/>
          <a:ext cx="495288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514600"/>
                    <a:ext cx="49528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ference effects are commonly observed in thin film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s are soap bubbles and oil on wat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interference is due to the interaction of the waves reflected from both surfaces of the fil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s to re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lectromagnetic wave traveling from a medium of index of refractio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ward a medium of index of refractio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ndergoes a 180° phase change on reflection whe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gt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is no phase change in the reflected wave if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&lt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ligh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 in a medium with index of refraction n is 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= λ/n where λ is the wavelength of light in vacu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 1 undergoes a phase change of 180° with respect to the incident 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 2, which is reflected from the lower surface, undergoes no phase change with respect to the incident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771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y 2 also travels an additional distance of 2t before the waves recomb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onstructive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t = (m + ½ 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m = 0, 1, 2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takes into account both the difference in optical path length for the two rays and the 180° phas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estruction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n t = 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m = 0, 1, 2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5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factors influence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phase reversals on ref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ces in travel di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ditions are valid if the medium above the top surface is the same as the medium below the bottom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thin film is between two different media, one of lower index than the film and one of higher index, the conditions for constructive and destructive interference ar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ver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 sure to include two effects when analyzing the interference pattern from a thin fil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ght waves interfere with each other much like mechanical waves 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interference associated with light waves arises when the electromagnetic fields that constitute the individual waves comb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ewton’s Ring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ther method for viewing interference is to place a planoconvex lens on top of a flat glass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film between the glass surfaces varies in thickness from zero at the point of contact to some thickness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ttern of light and dark rings is obser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rings are call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ewton’s 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article model of light could not explain the origin of the 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ton’s Rings can be used to test optical l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Strategy with Thin Films, 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the thin film causing the interfe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indices of refraction in the film and the media on either side of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number of phase reversals: zero, one or tw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with Thin Film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terference is constructive if the path difference is an integral multiple of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λ and destructive if the path difference is an odd half multiple of 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he conditions are reversed if one of the waves undergoes a phase change on ref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with Thin Film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2362320"/>
          <a:ext cx="8574120" cy="4114800"/>
        </p:xfrm>
        <a:graphic>
          <a:graphicData uri="http://schemas.openxmlformats.org/drawingml/2006/table">
            <a:tbl>
              <a:tblPr/>
              <a:tblGrid>
                <a:gridCol w="3392280"/>
                <a:gridCol w="2590920"/>
                <a:gridCol w="2590920"/>
              </a:tblGrid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phase rever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2 phase revers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nt = (m + ½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ru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tru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nt = m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tru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ru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in Thin Films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xample of different indices of ref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ating on a solar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wo phase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4" descr="Fig ex24-09"/>
          <p:cNvPicPr/>
          <p:nvPr/>
        </p:nvPicPr>
        <p:blipFill>
          <a:blip r:embed="rId1"/>
          <a:stretch/>
        </p:blipFill>
        <p:spPr>
          <a:xfrm>
            <a:off x="4633920" y="1905120"/>
            <a:ext cx="42004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D’s and DVD’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is stored digit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ries of ones and zeros read by laser light reflected from the d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ong reflections correspond to constructive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reflections are chosen to represent ze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ak reflections correspond to destructive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reflections are chosen to represent 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D’s and Thin Film Interfere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D has multiple track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racks consist of a sequence of pits of varying length formed in a reflecting information lay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its appear as bumps to the laser be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aser beam shines on the metallic layer through a clear plastic co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ading a C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2017800"/>
            <a:ext cx="4459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disk rotates, the laser reflects off the sequence of bumps and lower areas into a photod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hotodector converts the fluctuating reflected light intensity into an electrical string of zeros and 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it depth is made equal to one-quarter of the wavelength of the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6" descr="Fig 24-12"/>
          <p:cNvPicPr/>
          <p:nvPr/>
        </p:nvPicPr>
        <p:blipFill>
          <a:blip r:embed="rId1"/>
          <a:stretch/>
        </p:blipFill>
        <p:spPr>
          <a:xfrm>
            <a:off x="4419720" y="2362320"/>
            <a:ext cx="45352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ading a CD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laser beam hits a rising or falling bump edge, part of the beam reflects from the top of the bump and part from the lower adjacent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ensures destructive interference and very low intensity when the reflected beams combine at the det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ump edges are read as 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at bump tops and intervening flat plains are read as ze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VD’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VD’s use shorter wavelength la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rack separation, pit depth and minimum pit length are all sma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fore, the DVD can store about 30 times more information than a C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itions for Interfere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sustained interference between two sources of light to be observed, there are two conditions which must be m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urces must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he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must maintain a constant phase with respect to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ves must have identical waveleng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uygen’s principle requires that the waves spread out after they pass through sl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spreading out of light from its initial line of travel is call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ffr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general, diffraction occurs when waves pass through small openings, around obstacles or by sharp ed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Object 0"/>
          <p:cNvGraphicFramePr/>
          <p:nvPr/>
        </p:nvGraphicFramePr>
        <p:xfrm>
          <a:off x="5126040" y="1905120"/>
          <a:ext cx="3429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905120"/>
                    <a:ext cx="3429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ngle slit placed between a distant light source and a screen produces a diffraction patt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ill have a broad, intense central b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entral band will be flanked by a series of narrower, less intense secondary b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secondary max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entral band will also be flanked by a series of dark b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min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ults of the single slit cannot be explained by geometric op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metric optics would say that light rays traveling in straight lines should cast a sharp image of the slit on the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5319720" y="0"/>
            <a:ext cx="374796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aunhofer Dif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438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aunhofer Diffr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ccurs when the rays leave the diffracting object in parallel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een very far from the sl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ging lens (show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right fringe is seen along the axis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 = 0) with alternating bright and dark fringes on each 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6" descr="Fig 24-16a"/>
          <p:cNvPicPr/>
          <p:nvPr/>
        </p:nvPicPr>
        <p:blipFill>
          <a:blip r:embed="rId1"/>
          <a:stretch/>
        </p:blipFill>
        <p:spPr>
          <a:xfrm>
            <a:off x="5257800" y="1828800"/>
            <a:ext cx="3195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ngle Slit Dif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ording to Huygen’s principle, each portion of the slit acts as a source of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ght from one portion of the slit can interfere with light from another por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ultant intensity on the screen depends on the direc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6" descr="Fig 24-17"/>
          <p:cNvPicPr/>
          <p:nvPr/>
        </p:nvPicPr>
        <p:blipFill>
          <a:blip r:embed="rId1"/>
          <a:stretch/>
        </p:blipFill>
        <p:spPr>
          <a:xfrm>
            <a:off x="4861080" y="1905120"/>
            <a:ext cx="39510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ngle Slit Diffraction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the waves that originate at the slit are i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 1 travels farther than wave 3 by an amount equal to the path difference  (a/2) si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If this path difference is exactly half of a wavelength, the two waves cancel each other and destructive interferenc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ngle Slit Diffraction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general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estructive interfere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ccurs for a single slit of width a when si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dar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= mλ /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n’t give any information about the variations in intensity along the sc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ngle Slit Diffraction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eneral features of the intensity distribution are sh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road central bright fringe is flanked by much weaker bright fringes alternating with dark fri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s of constructive interference lie approximately halfway between the dark fri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6" descr="Fig 24-18"/>
          <p:cNvPicPr/>
          <p:nvPr/>
        </p:nvPicPr>
        <p:blipFill>
          <a:blip r:embed="rId1"/>
          <a:stretch/>
        </p:blipFill>
        <p:spPr>
          <a:xfrm>
            <a:off x="4532400" y="2666880"/>
            <a:ext cx="445932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 Grat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racting grating consists of many equally spaced parallel sl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ypical grating contains several thousand lines per centi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tensity of the pattern on the screen is the result of the combined effects of interference and diffr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 Grating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dition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xi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 si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br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 = m 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0, 1, 2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ger m i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rder numb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diffraction patte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incident radiation contains several wavelengths, each wavelength deviates through a specific an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6" descr="Fig 24-19"/>
          <p:cNvPicPr/>
          <p:nvPr/>
        </p:nvPicPr>
        <p:blipFill>
          <a:blip r:embed="rId1"/>
          <a:stretch/>
        </p:blipFill>
        <p:spPr>
          <a:xfrm>
            <a:off x="4952880" y="2017800"/>
            <a:ext cx="3838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ducing Coherent Sour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ght from a monochromatic source is allowed to pass through a narrow sl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from the single slit is allowed to fall on a screen containing two narrow sl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irst slit is needed to insure the light comes from a tiny region of the source which is cohe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 Grating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the wavelengths are focused at m = 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called the zeroth order maxim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irst order maximum corresponds to m =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te the sharpness of the principle maxima and the broad range of the dark ar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in contrast to the broad, bright fringes characteristic of the two-slit interference patte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6" descr="Fig 24-20"/>
          <p:cNvPicPr/>
          <p:nvPr/>
        </p:nvPicPr>
        <p:blipFill>
          <a:blip r:embed="rId1"/>
          <a:stretch/>
        </p:blipFill>
        <p:spPr>
          <a:xfrm>
            <a:off x="4419720" y="2459160"/>
            <a:ext cx="4535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raction Grating in CD Track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iffraction grating can be used in a three-beam method to keep the beam on a CD on tr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entral maximum of the diffraction pattern is used to read the information on the C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first-order maxima are used for ste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4" descr="Fig 24-23"/>
          <p:cNvPicPr/>
          <p:nvPr/>
        </p:nvPicPr>
        <p:blipFill>
          <a:blip r:embed="rId1"/>
          <a:stretch/>
        </p:blipFill>
        <p:spPr>
          <a:xfrm>
            <a:off x="4419720" y="2286000"/>
            <a:ext cx="453528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of Light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96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atom produces a wave with its own orientation of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directions of the electric field vector are equally possible and lie in a plane perpendicular to the direction of propag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is an unpolarized w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1" name="Object 0"/>
          <p:cNvGraphicFramePr/>
          <p:nvPr/>
        </p:nvGraphicFramePr>
        <p:xfrm>
          <a:off x="2895480" y="2666880"/>
          <a:ext cx="3128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128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Picture 11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4574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of Ligh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ave is said to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inearly polariz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the resultant electric field vibrates in the same direction at all times at a particular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arization can be obtained from an unpolarized beam b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ive absor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t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7086600" y="1828800"/>
            <a:ext cx="993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by Selective Absorp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st common technique for polarizing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a material that transmits waves whose electric field vectors in the plane are parallel to a certain direction and absorbs waves whose electric field vectors are perpendicular to that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9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86432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lective Absorp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. H. Land discovered a material that polarizes light through selective absor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called the material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laro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lecules readily absorb light whose electric field vector is parallel to their lengths and transmit light whose electric field vector is perpendicular to their leng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lective Absorption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tensity of the polarized beam transmitted through the second polarizing sheet (the analyzer) varies 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intensity of the polarized wave incident on the analy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known a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lus’ La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applies to any two polarizing materials whose transmission axes are at an angle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θ to each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by Refle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n unpolarized light beam is reflected from a surface, the reflected light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letely polar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tially polar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polar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depends on the angle of incid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angle is 0° or 90°, the reflected beam is unpolar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angles between this, there is some degree of polar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one particular angle, the beam is completely polar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by Reflec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ngle of incidence for which the reflected beam is completely polarized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olarizing ang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Brewster’s Law relates the polarizing angle to the index of refraction for the mate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may also be called Brewster’s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2359080" y="4405320"/>
          <a:ext cx="305424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9080" y="4405320"/>
                    <a:ext cx="305424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by Scatte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light is incident on a system of particles, the electrons in the medium can absorb and reradiate part of the l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att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example of scattering is the sunlight reaching an observer on the earth becoming polari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ducing Coherent Sourc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ly, it is much more common to use a laser as a coherent sou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ser produces an intense, coherent, monochromatic beam over a width of several millime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ser light can be used to illuminate multiple slits di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larization by Scattering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3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orizontal part of the electric field vector in the incident wave causes the charges to vibrate horizont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rtical part of the vector simultaneously causes them to vibrate vert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rizontally and vertically polarized waves are emit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5" descr="Fig 24-29"/>
          <p:cNvPicPr/>
          <p:nvPr/>
        </p:nvPicPr>
        <p:blipFill>
          <a:blip r:embed="rId1"/>
          <a:stretch/>
        </p:blipFill>
        <p:spPr>
          <a:xfrm>
            <a:off x="6053040" y="2017800"/>
            <a:ext cx="19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ptical Acti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rtain materials display the property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ptical 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ubstance is optically active if it rotates the plane of polarization of transmitted 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cal activity occurs in a material because of an asymmetry in the shape of its constituent mate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 Cryst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quid crys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substance with properties intermediate between those of a crystalline solid and those of a liq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olecules of the substance are more orderly than those of a liquid but less than those in a pure crystalline sol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reate a display, the liquid crystal is placed between two glass plates and electrical contacts are made to the liquid crys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oltage is applied across any segment in the display and that segment turns 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 Crystal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tation of a polarized light beam by a liquid crystal when the applied voltage is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 passes through the polarizer on the right and is reflected back to the observer, who sees the segment as being b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6" descr="Fig 24-32b"/>
          <p:cNvPicPr/>
          <p:nvPr/>
        </p:nvPicPr>
        <p:blipFill>
          <a:blip r:embed="rId1"/>
          <a:stretch/>
        </p:blipFill>
        <p:spPr>
          <a:xfrm>
            <a:off x="2209680" y="1905120"/>
            <a:ext cx="469116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 Crystal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720" y="4647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voltage is applied, the liquid crystal does not rotate the plane of polar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ght is absorbed by the polarizer on the right and none is reflected back to the ob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gment is da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6" descr="Fig 24-32c"/>
          <p:cNvPicPr/>
          <p:nvPr/>
        </p:nvPicPr>
        <p:blipFill>
          <a:blip r:embed="rId1"/>
          <a:stretch/>
        </p:blipFill>
        <p:spPr>
          <a:xfrm>
            <a:off x="1690560" y="2017800"/>
            <a:ext cx="57769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 Crystal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ing the applied voltage in a precise pattern c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ck off the seconds on a wa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 a letter on a computer disp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acti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4,7,8,14,18,29,30,46,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Double Slit Experi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mas Young first demonstrated interference in light waves from two sources in 18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ght is incident on a screen with a narrow slit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waves emerging from this slit arrive at a second screen that contains two narrow, parallel slits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Double Slit Experiment,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arrow slits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ct as sources of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ves emerging from the slits originate from the same wave front and therefore are always i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7" descr="Fig 24-01a"/>
          <p:cNvPicPr/>
          <p:nvPr/>
        </p:nvPicPr>
        <p:blipFill>
          <a:blip r:embed="rId1"/>
          <a:stretch/>
        </p:blipFill>
        <p:spPr>
          <a:xfrm>
            <a:off x="4952880" y="1905120"/>
            <a:ext cx="35164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ulting Interference Patter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from the two slits form a visible pattern on a scre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ttern consists of a series of bright and dark parallel bands called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i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structive interfere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where a bright fringe app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structive interfere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ults in a dark fri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2:47:11Z</dcterms:created>
  <dc:creator>Brooks/Cole</dc:creator>
  <dc:description/>
  <dc:language>en-US</dc:language>
  <cp:lastModifiedBy>gandella</cp:lastModifiedBy>
  <dcterms:modified xsi:type="dcterms:W3CDTF">2011-03-01T13:16:53Z</dcterms:modified>
  <cp:revision>27</cp:revision>
  <dc:subject/>
  <dc:title>Chapter 24</dc:title>
</cp:coreProperties>
</file>